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850-CB78-4FDB-BEED-5E4A4129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C9D-F040-457F-B1F9-4CA695E5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3F9-9199-4D60-BC7C-34507969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7DCA-A867-474C-BA19-68E6EA9D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784-10D8-40A4-BBEC-17819764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34D-558A-45CD-8F63-389446B6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F381-3822-4ECA-A3E9-B53D3C23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90A-7FF5-4593-9E8B-95578FFB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2C2-754A-4BAC-865C-544335DB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556D-B975-457E-B8CB-B08C3EF8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E90-AABB-435C-BD73-4272E6B1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0DE8-69D1-4467-8600-7CDA554F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FDE6-B2CD-4F42-8C3F-188216694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es.wikipedia.org/wiki/Etnia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es.wikipedia.org/wiki/Muralismo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c090"/>
                </a:solidFill>
                <a:latin typeface="Comic Sans MS"/>
              </a:rPr>
              <a:t>MURALIS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p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tipo de arte es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éner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De qué género es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ripció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colores ves en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Cómo es ____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hacen las personas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inió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Qué opinas de ____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Cuáles son la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ndicacion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entidad personal?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¿Cuáles son la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ndicacion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entificación social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tori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es </a:t>
            </a:r>
            <a:r>
              <a:rPr b="0" lang="en-US" sz="2800" spc="-1" strike="noStrike">
                <a:solidFill>
                  <a:srgbClr val="e46c0a"/>
                </a:solidFill>
                <a:latin typeface="Comic Sans MS"/>
              </a:rPr>
              <a:t>la etni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joann\Pictures\Microsoft Clip Organizer\j0441428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153280" y="59436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37720" y="44197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46c0a"/>
                </a:solidFill>
                <a:latin typeface="Comic Sans MS"/>
              </a:rPr>
              <a:t>¿Qué es el muralismo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joann\Pictures\Microsoft Clip Organizer\j0441429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48720" y="5867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presencia de la.jpg"/>
          <p:cNvPicPr/>
          <p:nvPr/>
        </p:nvPicPr>
        <p:blipFill>
          <a:blip r:embed="rId4"/>
          <a:stretch/>
        </p:blipFill>
        <p:spPr>
          <a:xfrm>
            <a:off x="685800" y="1371600"/>
            <a:ext cx="7620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562720" y="838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Diego Riv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Historia de México: el antiguo mundo indígen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7" descr="el mundo azteca.jpg"/>
          <p:cNvPicPr/>
          <p:nvPr/>
        </p:nvPicPr>
        <p:blipFill>
          <a:blip r:embed="rId1"/>
          <a:stretch/>
        </p:blipFill>
        <p:spPr>
          <a:xfrm>
            <a:off x="1752480" y="1600200"/>
            <a:ext cx="54104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s explota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715000" y="1066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Diego Riv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15" descr="los explotadores.jpg"/>
          <p:cNvPicPr/>
          <p:nvPr/>
        </p:nvPicPr>
        <p:blipFill>
          <a:blip r:embed="rId1"/>
          <a:stretch/>
        </p:blipFill>
        <p:spPr>
          <a:xfrm>
            <a:off x="660240" y="1766880"/>
            <a:ext cx="765360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n el Palacio Nac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6172200" y="838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r Diego Riv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8" descr="mexicodf05%20copia.jpg"/>
          <p:cNvPicPr/>
          <p:nvPr/>
        </p:nvPicPr>
        <p:blipFill>
          <a:blip r:embed="rId1"/>
          <a:stretch/>
        </p:blipFill>
        <p:spPr>
          <a:xfrm>
            <a:off x="1447920" y="17524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et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99840" y="1752120"/>
            <a:ext cx="6553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¿Qué influencia tiene </a:t>
            </a:r>
            <a:r>
              <a:rPr b="0" lang="en-US" sz="4800" spc="-1" strike="noStrike">
                <a:solidFill>
                  <a:srgbClr val="e46c0a"/>
                </a:solidFill>
                <a:latin typeface="Comic Sans MS"/>
              </a:rPr>
              <a:t>la etnia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en la vida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752480" y="411480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¿De qué etnia ere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2:55:04Z</dcterms:created>
  <dc:creator>joann</dc:creator>
  <dc:description/>
  <dc:language>en-US</dc:language>
  <cp:lastModifiedBy>joann</cp:lastModifiedBy>
  <dcterms:modified xsi:type="dcterms:W3CDTF">2010-02-24T11:32:37Z</dcterms:modified>
  <cp:revision>64</cp:revision>
  <dc:subject/>
  <dc:title>Slide 1</dc:title>
</cp:coreProperties>
</file>